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F556-10E8-4B35-858D-A4A99E249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284D-5DF4-45BE-BCBF-692597228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8E9-6351-49C3-9ABF-1F3571A5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EDD-E52D-4B75-B963-6D8CDE93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3E8-F4A9-4CC1-8DE9-8D7D4801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961-947A-4633-8B70-5CF9B901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0BB-F0AE-447E-A266-08B4637F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3A3-6C83-4F5A-8828-45DA90ED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4B2-38A0-4933-9A02-EA28E906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8EF-4FE6-40C0-BC26-D50FCFCF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7E8-D2E4-4CB6-9C91-93C6ED42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AC6-B708-4D19-90E3-2D835137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23D-30B6-4DCF-B177-3FAE8CDB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371B-44A4-4180-87D9-77CA8824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9C1C-7F7C-4316-8E8C-8004E12BE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am Awad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am Awadalla 1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am Awadall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am Awadall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76320" y="3581280"/>
            <a:ext cx="17524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nombre es Meram. Yo vivo en New York City. Tengo 14 años. Tengo uno hermano. Soy es joven, graciosa y activ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645080"/>
            <a:ext cx="568440" cy="822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6450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7242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6:41Z</dcterms:modified>
  <cp:revision>102</cp:revision>
  <dc:subject/>
  <dc:title>Profile</dc:title>
</cp:coreProperties>
</file>